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831C-9DF7-48A9-BB97-7066421B3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1B9-AC8D-42BA-BB7B-E3D04A2D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F0DB-3BFC-4B92-A1FC-8FA06436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39D1-FBA0-4324-99F3-6CDBB4C8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EA76-00FD-4796-9498-C86D90AE2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68A-9006-4835-8363-3C875BC4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46FF-778A-4E9D-B6A3-7A32E140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E35-6B9B-4718-8EBC-D2FF9475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28BF-C233-4894-A298-86DB8B2E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B0B9-731F-4971-AB09-E8BC036B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F07B-DDE4-4CAE-A2B0-0F941B505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6486-470A-4AD3-A5E2-E81131A0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7F37-B6FE-4B32-8320-FD127F09D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019840" y="2717640"/>
            <a:ext cx="4483080" cy="360"/>
            <a:chOff x="5019840" y="2717640"/>
            <a:chExt cx="4483080" cy="360"/>
          </a:xfrm>
        </p:grpSpPr>
        <p:sp>
          <p:nvSpPr>
            <p:cNvPr id="44" name=""/>
            <p:cNvSpPr/>
            <p:nvPr/>
          </p:nvSpPr>
          <p:spPr>
            <a:xfrm>
              <a:off x="5019840" y="2717640"/>
              <a:ext cx="448308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" name=""/>
            <p:cNvGrpSpPr/>
            <p:nvPr/>
          </p:nvGrpSpPr>
          <p:grpSpPr>
            <a:xfrm>
              <a:off x="5019840" y="2717640"/>
              <a:ext cx="4483080" cy="360"/>
              <a:chOff x="5019840" y="2717640"/>
              <a:chExt cx="4483080" cy="360"/>
            </a:xfrm>
          </p:grpSpPr>
          <p:sp>
            <p:nvSpPr>
              <p:cNvPr id="46" name=""/>
              <p:cNvSpPr/>
              <p:nvPr/>
            </p:nvSpPr>
            <p:spPr>
              <a:xfrm>
                <a:off x="5019840" y="2717640"/>
                <a:ext cx="4483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7" name=""/>
              <p:cNvGrpSpPr/>
              <p:nvPr/>
            </p:nvGrpSpPr>
            <p:grpSpPr>
              <a:xfrm>
                <a:off x="5019840" y="2717640"/>
                <a:ext cx="4197240" cy="360"/>
                <a:chOff x="5019840" y="2717640"/>
                <a:chExt cx="4197240" cy="36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5019840" y="2717640"/>
                  <a:ext cx="4017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" name=""/>
                <p:cNvGrpSpPr/>
                <p:nvPr/>
              </p:nvGrpSpPr>
              <p:grpSpPr>
                <a:xfrm>
                  <a:off x="5019840" y="2717640"/>
                  <a:ext cx="4197240" cy="360"/>
                  <a:chOff x="5019840" y="2717640"/>
                  <a:chExt cx="4197240" cy="360"/>
                </a:xfrm>
              </p:grpSpPr>
              <p:sp>
                <p:nvSpPr>
                  <p:cNvPr id="50" name=""/>
                  <p:cNvSpPr/>
                  <p:nvPr/>
                </p:nvSpPr>
                <p:spPr>
                  <a:xfrm>
                    <a:off x="5019840" y="2717640"/>
                    <a:ext cx="41972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5019840" y="2717640"/>
                    <a:ext cx="41972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52" name=""/>
          <p:cNvGrpSpPr/>
          <p:nvPr/>
        </p:nvGrpSpPr>
        <p:grpSpPr>
          <a:xfrm>
            <a:off x="5021280" y="2673360"/>
            <a:ext cx="4483080" cy="360"/>
            <a:chOff x="5021280" y="2673360"/>
            <a:chExt cx="4483080" cy="360"/>
          </a:xfrm>
        </p:grpSpPr>
        <p:sp>
          <p:nvSpPr>
            <p:cNvPr id="53" name=""/>
            <p:cNvSpPr/>
            <p:nvPr/>
          </p:nvSpPr>
          <p:spPr>
            <a:xfrm>
              <a:off x="5021280" y="2673360"/>
              <a:ext cx="448308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5021280" y="2673360"/>
              <a:ext cx="4483080" cy="360"/>
              <a:chOff x="5021280" y="2673360"/>
              <a:chExt cx="4483080" cy="360"/>
            </a:xfrm>
          </p:grpSpPr>
          <p:sp>
            <p:nvSpPr>
              <p:cNvPr id="55" name=""/>
              <p:cNvSpPr/>
              <p:nvPr/>
            </p:nvSpPr>
            <p:spPr>
              <a:xfrm>
                <a:off x="5021280" y="2673360"/>
                <a:ext cx="4483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5021280" y="2673360"/>
                <a:ext cx="4197240" cy="360"/>
                <a:chOff x="5021280" y="2673360"/>
                <a:chExt cx="4197240" cy="36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5021280" y="2673360"/>
                  <a:ext cx="4017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" name=""/>
                <p:cNvGrpSpPr/>
                <p:nvPr/>
              </p:nvGrpSpPr>
              <p:grpSpPr>
                <a:xfrm>
                  <a:off x="5021280" y="2673360"/>
                  <a:ext cx="4197240" cy="360"/>
                  <a:chOff x="5021280" y="2673360"/>
                  <a:chExt cx="4197240" cy="360"/>
                </a:xfrm>
              </p:grpSpPr>
              <p:sp>
                <p:nvSpPr>
                  <p:cNvPr id="59" name=""/>
                  <p:cNvSpPr/>
                  <p:nvPr/>
                </p:nvSpPr>
                <p:spPr>
                  <a:xfrm>
                    <a:off x="5021280" y="2673360"/>
                    <a:ext cx="41972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5021280" y="2673360"/>
                    <a:ext cx="41972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1" name=""/>
          <p:cNvGrpSpPr/>
          <p:nvPr/>
        </p:nvGrpSpPr>
        <p:grpSpPr>
          <a:xfrm>
            <a:off x="5021280" y="2678040"/>
            <a:ext cx="4483080" cy="360"/>
            <a:chOff x="5021280" y="2678040"/>
            <a:chExt cx="4483080" cy="360"/>
          </a:xfrm>
        </p:grpSpPr>
        <p:sp>
          <p:nvSpPr>
            <p:cNvPr id="62" name=""/>
            <p:cNvSpPr/>
            <p:nvPr/>
          </p:nvSpPr>
          <p:spPr>
            <a:xfrm>
              <a:off x="5021280" y="2678040"/>
              <a:ext cx="448308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5021280" y="2678040"/>
              <a:ext cx="4483080" cy="360"/>
              <a:chOff x="5021280" y="2678040"/>
              <a:chExt cx="4483080" cy="360"/>
            </a:xfrm>
          </p:grpSpPr>
          <p:sp>
            <p:nvSpPr>
              <p:cNvPr id="64" name=""/>
              <p:cNvSpPr/>
              <p:nvPr/>
            </p:nvSpPr>
            <p:spPr>
              <a:xfrm>
                <a:off x="5021280" y="2678040"/>
                <a:ext cx="448308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5021280" y="2678040"/>
                <a:ext cx="4197240" cy="360"/>
                <a:chOff x="5021280" y="2678040"/>
                <a:chExt cx="4197240" cy="36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5021280" y="2678040"/>
                  <a:ext cx="4017960" cy="36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" name=""/>
                <p:cNvGrpSpPr/>
                <p:nvPr/>
              </p:nvGrpSpPr>
              <p:grpSpPr>
                <a:xfrm>
                  <a:off x="5021280" y="2678040"/>
                  <a:ext cx="4197240" cy="360"/>
                  <a:chOff x="5021280" y="2678040"/>
                  <a:chExt cx="4197240" cy="360"/>
                </a:xfrm>
              </p:grpSpPr>
              <p:sp>
                <p:nvSpPr>
                  <p:cNvPr id="68" name=""/>
                  <p:cNvSpPr/>
                  <p:nvPr/>
                </p:nvSpPr>
                <p:spPr>
                  <a:xfrm>
                    <a:off x="5021280" y="2678040"/>
                    <a:ext cx="41972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5021280" y="2678040"/>
                    <a:ext cx="4197240" cy="36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NDI 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Fondi A già ripartiti 499.220,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unseling  1290 x 200 x istituzione scolastica che ha docenti iscritti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somma di  50.000  sarà riservata dalla Direzione Generale Regionale per azioni di formazione dei tutor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a rimanenza, dopo aver pagato B e C, verrà ripartita tra i centri di formazione in base al numero di corsisti (effettivamente frequentanti) del percorso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SIBILI MODALITA’ DI UTILIZZO DEI FONDI  PER  FORMANDI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Ore ulteriori di formazione (percorso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uns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quisto materiale  librario, cd rom etc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quisto abbonamenti riv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quisto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cquisto corsi on-li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Pagamento per patente ECDL effettivamente conseguita e non superamento esami moduli parziali o solo acquisto skills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ERTIFICAZIONE PERCOR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n presenza  specificando i moduli frequent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Le ore di autoformazione non vengono monitorate, perché nessuno potrebbe avere la certezza che davanti al computer acceso ci sia realmente il docente da formare , e non ad esempio un parente, sta al tutor verificare nelle ore in presenza, che veramente i corsisti abbiano svolto il lavoro [risposta ufficiale fornita da Indire in data 18 marzo 2003]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EMPIMENTI DIRETTORI COR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Il Direttore del corso è tenuto a rilasciare la certificazione prevista sulla base di appositi modelli predisposti dal MI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redigere e inviare alla Direzione Regionale una relazione riguardante l’andamento didattico dei corsi svo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a fornire la rendicontazione amministrati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comunicare alle Direzione Regionali e a Invalsi i nominativi dei referenti organizzativi e dei tutor d’a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elenchi completi dei corsisti A con indicazione delle scuole di servizio (Istituto e pless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ess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non ci rimane c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52578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205740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raggiungere gli obiettivi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4:24:44Z</dcterms:created>
  <dc:creator>misso</dc:creator>
  <dc:description/>
  <dc:language>en-US</dc:language>
  <cp:lastModifiedBy>bullo</cp:lastModifiedBy>
  <dcterms:modified xsi:type="dcterms:W3CDTF">2003-05-05T10:10:09Z</dcterms:modified>
  <cp:revision>3</cp:revision>
  <dc:subject/>
  <dc:title>UMTS</dc:title>
</cp:coreProperties>
</file>